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6B89-6C85-4CB6-ABB8-B6DB71937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BFEF-C8D9-4288-9E92-C849843B3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304F-B44C-4856-B2C9-D341D3C73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819D-803B-4BEB-8882-33996A9C1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E87B5-1893-4146-9C6A-AA064D559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39F8E-E2AF-431B-A12C-4117B58AD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B7184-297E-4BB4-A82B-C3A380004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F6E4A-C0A2-4883-A724-50D9D0B5A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CFA5F-2B80-4413-B48F-3422DC3FD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CE920-78E7-4B14-A41E-90B500F5D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5B479-FC48-4716-800B-6A14EBBD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E33B-F302-4498-B930-F6C3B0DDE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00DD7-D1B6-49A9-9CBB-83C49C0A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3CE80-B49C-4B5C-98C5-30A2AE5A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7C3E0-1785-4011-80E8-7C151B5B5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5B7DB-E922-4984-84F2-1987941FB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CE419-0CA1-4848-BA09-702BDADA9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7CF6-A8D0-479F-A8E0-EBDA984D3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1F14-74D7-4725-B887-86B0E85A1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6FC1-32FF-42DE-9BC6-732D7730A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F7A2-B2F3-4FD0-BF1E-581C50669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6EC4-51D3-4254-8A87-60F67F81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DA91-3534-4140-BFB8-51CB5E95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7306-74A2-4A0D-9F71-69FA7A9D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xpbanna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AD83F-6274-4D7F-BCE1-2055F00C07F1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EXPHORSA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F2C24-BCB7-4318-904C-86251A85A0A3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Expbanna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EXPHORSA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EXPHORSA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Adobe Garamond Pro Bold"/>
              </a:rPr>
              <a:t>Asad ul Malik</a:t>
            </a:r>
            <a:endParaRPr b="0" lang="en-US" sz="4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76480" y="2376000"/>
            <a:ext cx="7083360" cy="197964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8000"/>
                </a:solidFill>
                <a:latin typeface="Times New Roman"/>
              </a:rPr>
              <a:t>Country         :: Pakist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8000"/>
                </a:solidFill>
                <a:latin typeface="Times New Roman"/>
              </a:rPr>
              <a:t>Me in class    ::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9th gr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cc00"/>
                </a:solidFill>
                <a:latin typeface="Times New Roman"/>
              </a:rPr>
              <a:t>My interest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 :: football, music, fil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66"/>
                </a:solidFill>
                <a:latin typeface="Times New Roman"/>
              </a:rPr>
              <a:t>My favourite subject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: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00200" y="5334120"/>
            <a:ext cx="6858000" cy="1015920"/>
          </a:xfrm>
          <a:prstGeom prst="rect">
            <a:avLst/>
          </a:prstGeom>
          <a:solidFill>
            <a:srgbClr val="482400"/>
          </a:solidFill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Proud to be the part of Asia Europe Class Netwo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And thank you for giving me a chance in HisBulP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akistan" descr=""/>
          <p:cNvPicPr/>
          <p:nvPr/>
        </p:nvPicPr>
        <p:blipFill>
          <a:blip r:embed="rId6"/>
          <a:stretch/>
        </p:blipFill>
        <p:spPr>
          <a:xfrm>
            <a:off x="7086600" y="533520"/>
            <a:ext cx="145080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3T10:55:33Z</dcterms:created>
  <dc:creator>pasha</dc:creator>
  <dc:description/>
  <dc:language>en-US</dc:language>
  <cp:lastModifiedBy>Sumi</cp:lastModifiedBy>
  <dcterms:modified xsi:type="dcterms:W3CDTF">2010-01-26T23:56:54Z</dcterms:modified>
  <cp:revision>24</cp:revision>
  <dc:subject/>
  <dc:title>MR. HAROON </dc:title>
</cp:coreProperties>
</file>